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0200" y="8832960"/>
            <a:ext cx="800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44BF-B469-418C-88EA-C2BFDE438BE1}" type="slidenum">
              <a:rPr b="0" lang="en-US" sz="1000" spc="-1" strike="noStrike">
                <a:solidFill>
                  <a:srgbClr val="000000"/>
                </a:solidFill>
                <a:latin typeface="Chicag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1.6  Solving Inequalities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 follows the same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procedures as solving equations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are a few special things to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onsider with inequalities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need to look carefully at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also need to graph the solution se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iew of Inequality Sig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 greater than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less than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eater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less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How to graph the solutio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Graph any number greater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righ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Graph any number less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greater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righ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less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lef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 the inequality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+ 4 &lt; 7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4    -4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  &lt;   3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4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Keep the sam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is one special cas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metimes you may have to reverse the direction of the inequality sign!!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at only happens when you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multiply or divide both sides of the inequality by a negative number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Example: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: -3y + 5 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5   -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y &gt; 18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      -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y &lt;  -6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5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Divide each side by negative 3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erse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2x+3&gt;x+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- c - 11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3(r-2)&lt;2r+4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409-27C3-42A1-B058-2C4D793C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18D-1507-485B-90BB-2846C09A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BD1-C184-49A6-95E0-582BC7B1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2B2-5D85-478B-8633-DEBBB750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3DA4-F732-4774-A747-5978800F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7963-F30F-4F9C-9106-6EE5563C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4897-B5FC-473C-9EE2-D552C5DA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BEF5-5032-4CE3-B600-B3174BB6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686C-305C-4DAE-A08D-DAAE7227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BA25-A250-4329-9422-82EA159B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ABE9-1543-4395-AD33-93AE3AAC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E66-644D-4E1A-BE9C-D5AC6A81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3278-1348-4F8A-9AED-B85AF97B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59BF-ADCD-4B47-BF85-380BDC2E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7EC7-C219-43D7-921F-9E5EAB1D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3BD8-6596-41C1-A050-A3BB0AE5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AA57-762F-46B4-B35E-52468988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3B1-594F-44EB-82D8-855DEB15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60C-346F-46F6-882F-43722EAC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54E-2FEC-4562-AF85-4C7C7943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910-636A-440E-A824-AD574D31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292-B619-46DE-A3AA-8205596A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EDE-7C04-45FB-BAF0-9C194555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895-9239-45DC-A86F-286E626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3D59-2345-4FF7-AF9B-93A9C336E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5000" y="609480"/>
            <a:ext cx="9009000" cy="1052640"/>
            <a:chOff x="135000" y="6094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425520" y="717480"/>
              <a:ext cx="711360" cy="474840"/>
              <a:chOff x="425520" y="7174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425520" y="717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808560" y="717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549360" y="1139760"/>
              <a:ext cx="737640" cy="474840"/>
              <a:chOff x="549360" y="11397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549360" y="1139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918000" y="1139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135000" y="1066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770040" y="609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451080" y="1431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3257-3E6D-4DCA-A50A-9AB3FE75932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1.6  Solving Inequal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ing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inequalities follows the same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s solving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fe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th inequal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look carefully at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need to graph the solution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Review of Inequality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26668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2616120" y="18795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9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99072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990720" y="39765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52"/>
          <p:cNvGraphicFramePr/>
          <p:nvPr/>
        </p:nvGraphicFramePr>
        <p:xfrm>
          <a:off x="717480" y="40672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480" y="40672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6"/>
          <p:cNvGraphicFramePr/>
          <p:nvPr/>
        </p:nvGraphicFramePr>
        <p:xfrm>
          <a:off x="727200" y="33526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33526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How to graph the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r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25"/>
          <p:cNvGraphicFramePr/>
          <p:nvPr/>
        </p:nvGraphicFramePr>
        <p:xfrm>
          <a:off x="838080" y="3809880"/>
          <a:ext cx="349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Group 19"/>
          <p:cNvGrpSpPr/>
          <p:nvPr/>
        </p:nvGrpSpPr>
        <p:grpSpPr>
          <a:xfrm>
            <a:off x="5791320" y="5486400"/>
            <a:ext cx="818640" cy="228600"/>
            <a:chOff x="5791320" y="5486400"/>
            <a:chExt cx="818640" cy="228600"/>
          </a:xfrm>
        </p:grpSpPr>
        <p:sp>
          <p:nvSpPr>
            <p:cNvPr id="129" name="AutoShape 14"/>
            <p:cNvSpPr/>
            <p:nvPr/>
          </p:nvSpPr>
          <p:spPr>
            <a:xfrm>
              <a:off x="5791320" y="552924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>
              <a:off x="6381720" y="548640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5867280" y="2362320"/>
            <a:ext cx="838080" cy="228600"/>
            <a:chOff x="5867280" y="2362320"/>
            <a:chExt cx="838080" cy="228600"/>
          </a:xfrm>
        </p:grpSpPr>
        <p:sp>
          <p:nvSpPr>
            <p:cNvPr id="132" name="AutoShape 7"/>
            <p:cNvSpPr/>
            <p:nvPr/>
          </p:nvSpPr>
          <p:spPr>
            <a:xfrm>
              <a:off x="5867280" y="236232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095880" y="23907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5943600" y="4419720"/>
            <a:ext cx="837720" cy="228600"/>
            <a:chOff x="5943600" y="4419720"/>
            <a:chExt cx="837720" cy="228600"/>
          </a:xfrm>
        </p:grpSpPr>
        <p:sp>
          <p:nvSpPr>
            <p:cNvPr id="135" name="AutoShape 9"/>
            <p:cNvSpPr/>
            <p:nvPr/>
          </p:nvSpPr>
          <p:spPr>
            <a:xfrm>
              <a:off x="5943600" y="441972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171840" y="444816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5562720" y="3352680"/>
            <a:ext cx="838080" cy="228600"/>
            <a:chOff x="5562720" y="3352680"/>
            <a:chExt cx="838080" cy="228600"/>
          </a:xfrm>
        </p:grpSpPr>
        <p:sp>
          <p:nvSpPr>
            <p:cNvPr id="138" name="AutoShape 8"/>
            <p:cNvSpPr/>
            <p:nvPr/>
          </p:nvSpPr>
          <p:spPr>
            <a:xfrm>
              <a:off x="6172200" y="33526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>
              <a:off x="5562720" y="33955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40" name="Object 28"/>
          <p:cNvGraphicFramePr/>
          <p:nvPr/>
        </p:nvGraphicFramePr>
        <p:xfrm>
          <a:off x="838080" y="4876920"/>
          <a:ext cx="2793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76920"/>
                    <a:ext cx="279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e the inequalit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124080" y="2514600"/>
            <a:ext cx="651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4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sam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47" name="AutoShape 12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9" name="Line 6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8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Text Box 14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Text Box 15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AutoShape 11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9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here is one special cas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you may have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of the inequality sign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nly happens when yo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y or div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sides of the inequality by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829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imes New Roman"/>
              </a:rPr>
              <a:t>Example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43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y + 5 &gt;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      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352680" y="190512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5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each side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ga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28"/>
          <p:cNvGrpSpPr/>
          <p:nvPr/>
        </p:nvGrpSpPr>
        <p:grpSpPr>
          <a:xfrm>
            <a:off x="914400" y="6148440"/>
            <a:ext cx="5153040" cy="711360"/>
            <a:chOff x="914400" y="6148440"/>
            <a:chExt cx="5153040" cy="711360"/>
          </a:xfrm>
        </p:grpSpPr>
        <p:grpSp>
          <p:nvGrpSpPr>
            <p:cNvPr id="166" name="Group 25"/>
            <p:cNvGrpSpPr/>
            <p:nvPr/>
          </p:nvGrpSpPr>
          <p:grpSpPr>
            <a:xfrm>
              <a:off x="914400" y="6148440"/>
              <a:ext cx="5153040" cy="399960"/>
              <a:chOff x="914400" y="6148440"/>
              <a:chExt cx="5153040" cy="399960"/>
            </a:xfrm>
          </p:grpSpPr>
          <p:sp>
            <p:nvSpPr>
              <p:cNvPr id="167" name="Line 8"/>
              <p:cNvSpPr/>
              <p:nvPr/>
            </p:nvSpPr>
            <p:spPr>
              <a:xfrm>
                <a:off x="3933720" y="615780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41623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43909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AutoShape 13"/>
              <p:cNvSpPr/>
              <p:nvPr/>
            </p:nvSpPr>
            <p:spPr>
              <a:xfrm>
                <a:off x="914400" y="6224760"/>
                <a:ext cx="2743200" cy="228600"/>
              </a:xfrm>
              <a:prstGeom prst="leftArrow">
                <a:avLst>
                  <a:gd name="adj1" fmla="val 50000"/>
                  <a:gd name="adj2" fmla="val 300000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AutoShape 12"/>
              <p:cNvSpPr/>
              <p:nvPr/>
            </p:nvSpPr>
            <p:spPr>
              <a:xfrm>
                <a:off x="3629160" y="6272280"/>
                <a:ext cx="152280" cy="15228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3705120" y="614844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1800360" y="63435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22"/>
              <p:cNvSpPr/>
              <p:nvPr/>
            </p:nvSpPr>
            <p:spPr>
              <a:xfrm>
                <a:off x="50767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23"/>
              <p:cNvSpPr/>
              <p:nvPr/>
            </p:nvSpPr>
            <p:spPr>
              <a:xfrm>
                <a:off x="48481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24"/>
              <p:cNvSpPr/>
              <p:nvPr/>
            </p:nvSpPr>
            <p:spPr>
              <a:xfrm>
                <a:off x="46195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" name="Text Box 26"/>
            <p:cNvSpPr/>
            <p:nvPr/>
          </p:nvSpPr>
          <p:spPr>
            <a:xfrm>
              <a:off x="4924440" y="6491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3476520" y="6491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x+3&gt;x+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 - 11&gt;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(r-2)&lt;2r+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LEGION</cp:lastModifiedBy>
  <cp:lastPrinted>2014-02-11T06:44:45Z</cp:lastPrinted>
  <dcterms:modified xsi:type="dcterms:W3CDTF">2017-07-06T06:40:22Z</dcterms:modified>
  <cp:revision>55</cp:revision>
  <dc:subject/>
  <dc:title>1.6 </dc:title>
</cp:coreProperties>
</file>